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061C-1538-43F9-9B6B-12BCD2CCA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4B8D-D201-4A13-B0EE-ADADDBD07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C68F-2A76-4FBF-9986-F0A456258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CEC4-542D-4EC6-BF1D-4C999549B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E6DF-71DF-4D2C-B68D-78FF02519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65AF-76BB-4D31-BBE9-C651AF888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0DF0-3DCE-4676-83B6-A6C4E10EF5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36A8-7016-4C79-8DCF-680518D79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7B8C-826C-454C-9BA7-F2E958A701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E151-AEF1-4BD1-8EF8-E5EF948A7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D4FB-F34B-4C92-9E7F-952F51B36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3F22-C6B1-46C3-BB99-1E69CFF37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C917-D967-4CA4-B8BA-D67A71717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B9F7-7DA7-4BD9-8211-CE9212CDE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576A-0A34-43FF-92E3-557BABE005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3086-F4CB-4314-985E-D5F6AFC65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ED59-EAE4-4A5E-B2B3-F582C0AD2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7069-C8BA-4CC4-8386-84EE7B745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9773-304E-44D3-86DD-593541EA4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5EEE-B43F-493E-ACEB-D2C627EF3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D8FC-C023-4AF1-9736-6F3970D39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EC5C-03C0-491A-9174-F4177A3C5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959C-895F-4751-964B-6EC747092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65A4-387F-4C46-8E3F-AB587B57C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F94D-94BA-4567-A8C1-7C2F270B1A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7835-CF8C-4988-9EB7-A8C97ACBED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392640"/>
            <a:ext cx="8280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 — Basic Edit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B2DD-A98F-4A13-B940-943D8BDFD1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pboar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448956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lipboar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temporary storage place. The Clipboard is displayed in                       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an hold up to 24 cut or copied i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2514600"/>
            <a:ext cx="22683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EF94-DDD3-4E2A-A3FA-3980D6E32B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ut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moves selected text from the document and places it on the Clipbo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Cu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click the Cut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427680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35640" y="3860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95640" y="4653000"/>
            <a:ext cx="8287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6684-7BED-4C76-8157-425C56F50E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s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ext is copied from the Clipboard to the location of the insertion point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Past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Paste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4797360"/>
            <a:ext cx="12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11640" y="4869000"/>
            <a:ext cx="793800" cy="82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5B32-BE31-41B2-830D-1578438D0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py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p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 copy of the selected text is placed on the Clipboard while the original text remains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Cop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Copy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4000" y="5553000"/>
            <a:ext cx="26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48000" y="4905360"/>
            <a:ext cx="722520" cy="7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A464-1B73-4269-81B1-F5EFE88303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sing Drag and Drop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ag and Dr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asiest way to copy and moving text a short d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 the pointer on the selected text and hold down the mouse button until a small box appears. While still holding down the mouse button, drag the text to the desired loc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443A-0370-493A-A2ED-0A24AB732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9520" y="839880"/>
            <a:ext cx="77691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utomatic Spell and Grammar Check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omatic Spell Chec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identifies spelling errors as you type with a wavy red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omatic Grammar Chec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identifies grammatical errors with a wavy green line as you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C84A-4F61-41D8-AC17-F88B55F06C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elling and Grammar Check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pelling and Grammar Check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used to check the spelling and grammar of a document after you finish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ools, Spelling/Grammar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Spelling and Grammar button on the                     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3640" y="569736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855720" cy="88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D64F-5B23-473B-9AE2-34ABD369BD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nd and Replace Command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 and Repl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diting commands that find a specific word in a document and allow you to replace it with a new wo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Find/Replace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use Option button beneath the scroll bar on Right. Use binoculars for find/replace fea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52552" t="79082" r="25488" b="0"/>
          <a:stretch/>
        </p:blipFill>
        <p:spPr>
          <a:xfrm>
            <a:off x="5543640" y="5157720"/>
            <a:ext cx="2016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13EA-E714-4A76-80B9-93F0662752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nd and Replace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08000" y="2492280"/>
            <a:ext cx="5904000" cy="388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56360" y="2708280"/>
            <a:ext cx="172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mat specif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 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d N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6236-4265-46ED-9801-574D27743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sauru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029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saur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finds a synonym                        for a word in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word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ools, Language, Thesauru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t. Click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ynonym or Thesau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314440" cy="36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79FD-5D97-4B87-BF5C-CABFE18E9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te and type over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o and redo recent 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, copy, and past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drag and drop to move or copy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8E31-5C11-46E8-A986-52DC9A889E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ing the Date and Tim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sert, Date/Time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hoose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ate will be updated each time the document is opened i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pdate automatic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is check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4D0D-6533-4E81-8232-28BD7C6C1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ate and Time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84360" y="2529000"/>
            <a:ext cx="4643640" cy="37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1385-2681-4C6E-BD3D-5B98F822B3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speed operations by selecting blocks of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elete text using Backspace and Delet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eplace text using Overtype m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ndo recent actions using the Undo comm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CA41-FA06-487B-B800-442244E70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se Redo to reverse an Undo a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end text to the Clipboard by using the Cut or Copy command. Retrieve text by using the Paste comm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Find command moves the insertion point to the word or phrase for which you are sear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015F-56BE-4AFD-9FA9-1E797969AD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Replace command allows you to replace a word in the Find box with a word you key in the Replace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tomatic spell checking identifies misspelled words with a wavy red under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tomatic grammar checking identifies grammatical errors with a wavy green under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8D26-F76F-4A3C-A8E2-1157D6BA4B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Thesaurus is used to find a synonym for a word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date can be inserted in a document using the Date and Time command on the Insert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1AD2-895D-4010-AC23-D4B9010185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the spelling and grammar of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hesauru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the date and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5196-5371-4935-85D4-87DA9667D4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grammar che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spell che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and dr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type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lling and Grammar Che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au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005F-0E4D-4735-A409-BD3F41D4E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highlighting a block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5889-82B0-49F3-8E3C-323F7E8F4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2457360"/>
            <a:ext cx="80550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8754-5605-4708-BECD-AAEC8C02C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055000" cy="38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6D62-BFCF-4E4D-9081-C995D4FE6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ackspace, Delete, and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type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ckspace k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eletes characters to the left of the insertion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ete ke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deletes characters to the right of the insertion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vertyp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replaces or types over existing text. Double-click OVR on the status bar or press the Insert 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AFD1-EA60-4BA3-829D-115A6F1BD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sing Undo and Red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verses recent actions. Click the Undo button on the Standard toolbar, or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U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verses an Undo action. Click the Redo button on the Standard toolbar, or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Re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252900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79640" y="5265720"/>
            <a:ext cx="1008000" cy="642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93080" y="386064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08360" y="5265720"/>
            <a:ext cx="104472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055C-9D98-4D1B-95FD-4E7795928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09-24T17:21:58Z</dcterms:modified>
  <cp:revision>111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